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4993A-2C60-435E-81F1-EBBF72EC8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73AAE-B612-4ED6-B8A9-A90669458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978868-A63D-40EC-B822-3AF960CA7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21DF49-2417-4B49-9D93-EB8060FAD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945F67-FD39-4C6F-A336-A3C9EE9FA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91B63D-3616-423C-826C-E9E0C31DC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B35F45-4EED-46BC-9BA0-88AE1C592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4330F3-350E-4D79-A588-999C52141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5593BE-65D6-4A4F-ADED-7A7483662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7D1781-2D0A-4CAF-91BF-25620F1F5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4F52FB-0FBF-4E8F-944B-DC7ACFCEA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D72443-761D-4274-A43F-FD3D80941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05DCB-41B3-4518-8CF2-B171CFA2F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65257A-B451-467D-8D73-BE53EEF33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B9D7F6-DB0C-4BA9-BE0E-75A95F3C9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78A087-2FA1-4B16-8911-65D33BB04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CC98BB-5DF8-461D-A4F5-61350D924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13C347-FF81-4EF4-9EA6-A5205A769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A3EA99-6CE8-4060-995A-443BC6671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C5DA05-97D9-4E49-B69D-8E475224B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4CB45B-7433-4527-85D3-07323F636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FA4E0A-2F8A-40A7-A825-89F28E830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37E44E-ECCF-4572-AF2C-4E6ACF14D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1E08C-0F5C-440E-87EC-8B551BC88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29D879-37FF-47F7-AB2D-0A18EA0D5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2BE6CF-9283-452B-9A10-E26861738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9ABCAE-DA3F-4F9A-9330-2218D666D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45A7BB-09CB-486A-8C4A-301A4748C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C2C2B5-BEF0-4297-81D1-7F01AC6BB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2C143A-C38A-45E1-8BB5-D557C6573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D7099B-D5AB-4AA3-A248-81F4FBE4A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8E67D1-982A-48F3-A7DD-CEA6930E0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B4C504-B4C4-4D0C-AB24-54C23AEB1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2B6396-D019-48AA-9D47-481A86693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ABC47-50B8-4B2D-ADDC-EC12051C6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EA43A6-1CB6-4B74-AECC-8E2E37C3F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241BD2-6FB9-4E63-883D-AD9591C2D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5A7E4D-1BC0-4E76-A5B7-CC2E8AB8F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FA430F-7D51-44C7-A764-074A36730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A64704-A932-42F9-90BF-255F23312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578FB8-7799-4143-878B-260F99F22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771C2A-A66C-45BE-8520-44EC7854B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1767FC-756A-44DF-BDFE-4E5DA11A8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7F7CEC-B49B-4358-8234-897F0796D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267617-74A4-4CF4-A8E0-50D7A213D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E000A-8075-43DF-8DDD-6E0897B5E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963469-7B1C-4AA3-AF51-7B29CD097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2837CE-4E72-4D9F-A259-61D7F8E32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4C5E84-107C-4FB6-948A-4755B7385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16951E-50D1-4042-B296-90B4D304E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5E940E-21FD-4908-9159-EDCA09CE0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95E45AF-A5C0-4B37-8133-BC69B0D30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0A7227F-61B5-4EA1-ABA1-FF4FCCF88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CC0A4C2-7AC1-4738-A4AC-0FD91D4FC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43BCC57-F4EF-4091-8CDD-4E7DAC43E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E5096C9-7121-4322-8E8A-24A68C517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F294A-9D65-4A5E-8D86-94ED14247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C76F166-645E-4CA4-9849-B410D3BE2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2706005-F885-4D13-9EE8-13C259D3E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C8EA074-D728-4321-909D-7416C9C44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6E2404E-D54B-41B5-99E8-1647B0658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D207FCE-36D0-4213-AF5A-D4464E79C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C206D5F-4B04-438D-9F2B-8523A2D94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B2DC5F8-F557-4D76-A7D4-FC44300B4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499E8AE-9271-434D-BEC3-D04F6051A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ADF90DE-AA35-437D-B39D-CC4D5C033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E2F7E12-AF87-4C5A-A736-D3F2422F5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496CA-2320-433C-BB88-4D03303D9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9574A4F-0BA8-403D-AFEC-5857273F0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FDDF1C5-E38D-4E2B-B749-A6419FE0F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A17D9AA-583E-46C8-BBD5-58D5EB25B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6C188A0-DF06-4DDC-9C1F-1A8B6E809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9F8AAEC-D81D-4DFD-A0AB-0946F5632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6C495D1-7C9B-4B8F-9B89-9A76FBE64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6318409-28C0-42D7-A9CB-66DE7E77C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3A87063-5BE5-4DDB-A0F0-147C56176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9C41CB5-C566-4D69-8FDD-7D113588A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9202B3D-4491-4B50-84DA-D8D833B07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E8A91-CFE9-49F2-9CFB-8E6BA7C35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D8F7BE9-34AC-4DC5-A499-FF49FCFEE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6D78A03-97A0-467D-B652-F7FCD9864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CC01E7A-D192-4AB4-B6AE-174B36EE8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E3F36BF-CFC4-41A7-920D-41605148F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B0F0C11-C35D-4615-9848-ED4042BA9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109E53C-C0C8-4B2B-8B00-6C8863CCC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00E5057-79D1-4268-8649-EBA347D87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31C011D-4FC1-4888-84D0-9939DA2EB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75801FE-8720-41C6-8AB1-2DB0D2D16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0B849B0-B5DC-48B0-878C-E9C958050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B8CE8-AA04-4FA9-B9DF-BACAA7FAC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90F8DEE-2578-4A84-8BA2-E0F0A6CC3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B3BB7BC-056F-4130-BEAD-5A8F84A93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F2FE78B-9D25-45B7-9AF5-C0AC618AC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39ABEE7-D982-4C2B-82E9-E1070DE09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EA3FB44-FC22-4309-87CE-B36ABA0BD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ED9F3D1-3062-4E93-BFF1-B73DB2F64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DC905CB-1BF0-47C6-B78A-411CB99BD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5FB0FC2-1639-4EC1-830B-DCA7A400C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5CF6BB3-C10C-4DD4-BBDD-FED4FF223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74C99E5-7F5A-4AF0-9408-B087F2A82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D43D0-135B-4A57-A673-C6ACBBE08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2856CE1-5ABA-4AC2-96A0-2780A60FD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E380C2D-8E8F-4500-868B-19715A1DC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8BCCAEC-73F4-4CD3-8722-202555E9A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2D00A49-C8DE-481E-8C14-D9115C342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EB78D33-AED1-49A9-9479-D55EDF484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BC4BF38-2770-47E9-9D0D-174E3FD67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002EC10-6031-4396-9A0D-10174FACC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1D81145-A2B7-4A8F-B85B-7F3F88D36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E6BBF91-8CAC-4CD4-A9C2-FFCD6D7F8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2E28A3F-366C-449F-86F7-67BE4AE19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D6EEE-0E96-4F56-BAD0-FDACB7B03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93B1A-08B9-4A99-BCB3-94E4679DF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AA49B30-092D-4C51-A65A-CF9C0BFBF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EA2CE33-3C21-4DDD-8717-AFDA6E413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FC50222-095D-49EB-B396-A12325BBD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E32E1B6-C2DA-4985-8C91-9F78EA23C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33BEE04-2D3E-4958-9677-BC3721F96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7547D39-2BB7-426A-B982-415A38406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07DE743-52B5-469E-BB12-FD02E0BCE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F199B20-28C0-45C5-8588-954CC1CCF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85B2154-887A-4250-8A14-0E83B37EE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B08FE0A-021A-4811-BE47-260FB8AC9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7F12F-F5A5-4977-AA8A-78D622906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C5CB6E6-3923-48AE-82D5-CF462C8E1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9A7CAD9-0E73-49FA-9398-997F30805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9B0E9A3-BA97-46FA-AC77-A9D41999A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C5356B2-EF7F-4E5E-80AC-204847386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DF927CB-A2A9-479A-AA5B-7CDD00405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17EE5FF-AAA0-4A52-A3E2-40579D05A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9E51504-697B-45AC-8D3D-90B566742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CA04BF6-B341-4E74-8888-746A82868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ED0E662-7DB6-4307-82AF-CFB46F498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0B60D56-A444-4D3B-AE79-F5BE48739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66CA9-3C07-4673-801E-2588C2AC1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99491B0-6FCD-43DD-A0CB-EEFE513D4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20C5E56-23ED-4301-B084-E1C1F3D7E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57BFF98-E7E4-41B5-8A3B-77374F60A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AF46C2C-D33E-4610-B3D0-C87F96256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1D12B9F-FAC4-4D49-B64B-BE4EC09BD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4C4ACE3-0427-424E-B1DC-DF4866FD7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33B6976-D8CC-4C1D-AB76-886318914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7535962-71CD-4C03-91FD-BD81BF376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7EFA8E8-AB3A-4D77-B248-17F634E0D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D606E04-684B-481F-A72D-D489A2CB3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2E576-ACEA-4EE0-9A84-99A6BFE5F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FD5F8BA-7A06-4C11-8E59-5E507B584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EB980E5-6B21-4A9F-BFC0-2E884E18D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3BFEAEF-F944-4558-8866-0F6FC99F1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8CB3C66-F9B1-40AA-BC40-D0E3A461A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50543F1-A5C6-4A97-B344-0746E7637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EAC1AF1-F1D8-499A-8775-D4243E4EC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33F0DB9-27E6-4EAB-8E35-C9BB42964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267C03F-A816-49DA-8EAF-991A64A70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78D6909-D348-4E72-A1A8-BB624B3CA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4055669-24E7-455D-B35F-44EED9235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658E5-E8E0-4BE1-9FFD-A2C2A79BD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C4ABB9D-F725-41AB-875C-036DF4A79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DEAA422-DD28-4CC8-904A-26B8FECC5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9961934-05BC-449B-8747-157E4FFE0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B8A1365-D1FE-4D27-ACD2-0C2E0802E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759E077-375F-4103-B645-0AEE102D9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3511418-DC12-4246-88CD-8476A1538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2382104-0484-4C0B-85D6-78A1973C9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6F6BB99-118C-47EF-B3AB-5FAA343E0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F076E05-F3BF-433F-98A1-9F96911B2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46257BD-D7E3-41EE-A1D2-06F842043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85F40F-1FEA-4A94-BB12-563569328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0AE51AD-A9DD-4094-83D0-BACDFE271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D14D681-B4A1-4963-A34F-99C239B8F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2D72DA0-A824-4451-BC90-3E543E869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1D854A-3E92-40FE-BAEC-1087930EC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FE5348-823C-45F1-A803-566C51AA3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35E3E6-CA6A-4140-996E-B835ED720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1C2DF7-3922-474E-B43A-658C4CBBC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7B386-FD19-4C9B-881A-26C28245C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76016C-8ED5-4C98-9CB3-88FD5522E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07076B-0B7B-4AB4-A093-BBD7421A4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81DF71-4496-4AC6-9DED-A356A77DC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A23E8D-9C0A-4DF2-B22B-0D1FE8E8D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8DA79F-0D9E-4B32-AC66-68DA6A79A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90CD3E-99BF-48A9-8E2D-43FA8497F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6FEE9C-4E89-4BF0-83ED-53EA4E30D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1EEAA0-BB33-4CE0-8107-698987C56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B03E74-3FB8-41F3-AAD4-4AC53A5C5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3237E7-524E-4733-BCD7-A34F70709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D7801-C4F8-4BF0-AA18-580B83E7E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01DF60-3004-4CFD-925C-50C4E2BC0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680FBC-6891-4911-BC9E-67420EB6A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976102-A416-4177-A029-35DBCB82A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AEBBAF-FA78-4928-9244-30425E111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41F86E-6EB5-452E-931F-DA39BA008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F59527-58E6-4F49-8B02-2C5A9B3F5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7F01CE-E4E0-49F6-B055-729BAA313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CCBF0A-B945-4676-BE7E-985BBEEA3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6533B1-F608-49D6-938D-E847FE2A2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3DD6E4-7F11-49F0-A0CE-CA3331F3C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310E0-538A-4793-AEFE-C7AED2EEA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DF12D0-91D2-4570-B80B-C26F5D837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868777-2021-4E7B-AB03-C6282CF55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F58B91-AC59-4F48-9BA4-490B00B3E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67F7D9-BFDD-4F7E-AC60-7176A1EF1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F3E364-0253-46F6-9C01-5DC93F886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137176-9D25-4670-8095-327C1A7F7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D0D031-FC4C-4E9C-9EB7-921936DB9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C64BE2-D6C7-4749-9B9D-684D44880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3A5BA8-7961-44F7-A84B-BB64FFA81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554030-E9F4-49C1-AD1E-76410F044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72E02-033B-46B5-B041-3D0A5F11D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455D27-B2EC-41D3-9893-94DD4BF2C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0E0693-1B70-4116-8746-DB522B29B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1B875D-743F-470E-B6EA-EE9C89651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1B4635-461C-4CD7-BF54-DFD643D9E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12D901-A43A-4D49-A91D-DC85B1C22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5CA3CF-E00E-4846-81AC-8DE02DB13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A16C3B-8A8B-4E1F-9DEF-67FE1DDE2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93B02E-DE2B-4A99-A953-325CCB1CF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B22ABB-C27B-4267-967C-DF077591A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6C0AF2-EAA4-428D-91AE-99500CDB0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AB10A-481E-4D14-93F1-98D0CF340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5E61DE-9B4E-41CE-AC0C-4E9DB4427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BDCF27-06FD-47E5-86BB-C91713928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8A4CD3-4731-4CF5-ACB3-E614F05B9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3DE09F-041D-4AC8-8478-92170D042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3FC95B-E018-43B2-8D3D-05C275E14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CAFD7C-084D-4959-BC82-E9ED64CC4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690241-C164-488E-BA0C-CF7920B83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D7C71F-5909-4B80-AE32-EBB9B4822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854078-88A9-4619-9CD1-AC5990555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F0F1EF-9078-43BA-AC64-AA73D15A5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2C4D3-5D0D-4E3A-BE4D-F9A49FA48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894F59-FD2A-44B1-85F6-BA61000E3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A0318B-1BDF-4939-8496-B9E5D9851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92E095-0FF1-47E5-A182-06BA0D4CC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1202AB-91AC-4E4F-9BEA-0C0650360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286214-A6A1-4D63-BFB2-A0A8BDE29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DCB2A2-D21A-46F1-B5E6-8C5E89C55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A5CD15-973B-4027-ABA2-07E4C4971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65B96E-E3C9-4D85-B8AE-965F36AAE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FEB94F-647F-46AC-BD06-BC4E9E18C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A46D98-80D0-4028-839A-F7B701AA7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329EC-E4ED-46D9-B6C3-D6D588A44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81B3BD-E1DA-4618-BBCD-135124491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88B867-1CEB-4534-9957-4068DA5D0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D8967B-CBDF-4BF0-A48B-AA30A9E5C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F7C38D-7C84-45E5-A436-D3C2324FF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410D0E-60D9-4DC7-BA93-1E58554B5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22BBA6-6F93-4ABD-AF1C-A2C03283B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C2D82F-19C8-4153-9C1D-96D912E31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2AC9C8-06F9-45E2-91B3-A76B5FE24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23FDA9-7F44-41F2-AB01-A65EA8408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94648F-19BE-458C-900C-89598658E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0129F-2B67-4868-9383-A358C88EC5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76994-E17C-4FA5-B45E-CD939B6DEA4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8E3B4-246A-4B05-9EFA-59126E763DE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4296D-1A4A-4839-A6A0-121260938A3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7E375-322C-416A-B381-A2F65A7D330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BE174-3580-43FF-B594-66F2070F19E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E5C46-159B-4276-9026-4CF45EE8C66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B9A0C-C449-4C9B-A035-4B161E26D11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E81D8-D7FF-47C9-8C3F-36B8360EFF7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7F94D-F417-45E3-AD40-DD7D1E7F8CB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FF701-10C0-4DBF-9E19-DBC260474FD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B7743-395C-4D72-808E-D0D6DB36C8E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12504-F668-4893-85E4-C66355BBB28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60E3F-CBC0-4D2F-A915-679A929CA06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7D512-288C-48E8-A601-B4061EA0410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11201-55F0-42D4-A600-A9F4EE7C980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812BB-0FAD-426E-84B9-2AD89DCD6D5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26BA3-8B7D-4BF5-8646-925FEFE4E78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8E1C0-D412-4E61-B03E-BB619D36910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2B711-70C0-4687-8E41-594E4B356A3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EABEB-E8F4-44A6-9D91-846827F4BA0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10DFC-3DAD-4ECB-AD1D-ED55BF28E23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24B9D-2406-41C6-9B22-7B0542A74F4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FB7DB-193B-4076-B8C9-50F9D35E1DF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7CD27-FEE3-4743-97E4-505BDE59EAC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72B18-4DA1-466F-9B4C-5B39A2253CD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A3F01-B550-480B-8DA8-9413E94F252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020000" y="115920"/>
            <a:ext cx="1944720" cy="6476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15BEF-5149-4DB7-8D81-510973D6ED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75CF7-B31C-4018-A79C-E72C887A66D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7F0FB-F080-4ED1-9A22-33D9B69C64F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8561F-F4A8-4F97-ABF4-CCA272C5B23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7DAF6-948B-44B5-AAE2-D833B11B2A1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3F4C0-BA9E-45D2-89A7-77677BF95B7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FE570-E522-4769-A100-4583E16BA4F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AA139-A965-4EEE-8BD8-3FBCB9D749B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6FEDC-B0FF-4BFF-93FA-364F11D9806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28F5B-3E49-4C4B-B8C3-EEA341EF50D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08324-FDAB-415B-BAA3-CE406E9E6C9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7C360-55B0-4811-8942-0D2AA969F8E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4BA36-A6A8-4F0D-8E24-3C5480ACB38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4" name="图片 1" descr=""/>
          <p:cNvPicPr/>
          <p:nvPr/>
        </p:nvPicPr>
        <p:blipFill>
          <a:blip r:embed="rId1"/>
          <a:stretch/>
        </p:blipFill>
        <p:spPr>
          <a:xfrm>
            <a:off x="79200" y="3130560"/>
            <a:ext cx="8985600" cy="59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7" name="Picture 1" descr=""/>
          <p:cNvPicPr/>
          <p:nvPr/>
        </p:nvPicPr>
        <p:blipFill>
          <a:blip r:embed="rId1"/>
          <a:stretch/>
        </p:blipFill>
        <p:spPr>
          <a:xfrm>
            <a:off x="1979640" y="81000"/>
            <a:ext cx="388800" cy="304920"/>
          </a:xfrm>
          <a:prstGeom prst="rect">
            <a:avLst/>
          </a:prstGeom>
          <a:ln w="0">
            <a:noFill/>
          </a:ln>
        </p:spPr>
      </p:pic>
      <p:pic>
        <p:nvPicPr>
          <p:cNvPr id="1028" name="图片 1" descr=""/>
          <p:cNvPicPr/>
          <p:nvPr/>
        </p:nvPicPr>
        <p:blipFill>
          <a:blip r:embed="rId2"/>
          <a:stretch/>
        </p:blipFill>
        <p:spPr>
          <a:xfrm>
            <a:off x="262080" y="2233440"/>
            <a:ext cx="8618400" cy="239112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1" descr=""/>
          <p:cNvPicPr/>
          <p:nvPr/>
        </p:nvPicPr>
        <p:blipFill>
          <a:blip r:embed="rId3"/>
          <a:stretch/>
        </p:blipFill>
        <p:spPr>
          <a:xfrm>
            <a:off x="1258920" y="2781360"/>
            <a:ext cx="431640" cy="38412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1" descr=""/>
          <p:cNvPicPr/>
          <p:nvPr/>
        </p:nvPicPr>
        <p:blipFill>
          <a:blip r:embed="rId4"/>
          <a:stretch/>
        </p:blipFill>
        <p:spPr>
          <a:xfrm>
            <a:off x="1258920" y="3227400"/>
            <a:ext cx="431640" cy="38412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1" descr=""/>
          <p:cNvPicPr/>
          <p:nvPr/>
        </p:nvPicPr>
        <p:blipFill>
          <a:blip r:embed="rId5"/>
          <a:stretch/>
        </p:blipFill>
        <p:spPr>
          <a:xfrm>
            <a:off x="1258920" y="3716280"/>
            <a:ext cx="431640" cy="38412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1" descr=""/>
          <p:cNvPicPr/>
          <p:nvPr/>
        </p:nvPicPr>
        <p:blipFill>
          <a:blip r:embed="rId6"/>
          <a:stretch/>
        </p:blipFill>
        <p:spPr>
          <a:xfrm>
            <a:off x="1258920" y="4178160"/>
            <a:ext cx="431640" cy="3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35" name="图片 1" descr=""/>
          <p:cNvPicPr/>
          <p:nvPr/>
        </p:nvPicPr>
        <p:blipFill>
          <a:blip r:embed="rId1"/>
          <a:stretch/>
        </p:blipFill>
        <p:spPr>
          <a:xfrm>
            <a:off x="142920" y="1071720"/>
            <a:ext cx="8858160" cy="4714560"/>
          </a:xfrm>
          <a:prstGeom prst="rect">
            <a:avLst/>
          </a:prstGeom>
          <a:ln w="0">
            <a:noFill/>
          </a:ln>
        </p:spPr>
      </p:pic>
      <p:pic>
        <p:nvPicPr>
          <p:cNvPr id="1036" name="Picture 1" descr=""/>
          <p:cNvPicPr/>
          <p:nvPr/>
        </p:nvPicPr>
        <p:blipFill>
          <a:blip r:embed="rId2"/>
          <a:stretch/>
        </p:blipFill>
        <p:spPr>
          <a:xfrm>
            <a:off x="1187280" y="1628640"/>
            <a:ext cx="432000" cy="384480"/>
          </a:xfrm>
          <a:prstGeom prst="rect">
            <a:avLst/>
          </a:prstGeom>
          <a:ln w="0">
            <a:noFill/>
          </a:ln>
        </p:spPr>
      </p:pic>
      <p:pic>
        <p:nvPicPr>
          <p:cNvPr id="1037" name="Picture 1" descr=""/>
          <p:cNvPicPr/>
          <p:nvPr/>
        </p:nvPicPr>
        <p:blipFill>
          <a:blip r:embed="rId3"/>
          <a:stretch/>
        </p:blipFill>
        <p:spPr>
          <a:xfrm>
            <a:off x="1187280" y="2997360"/>
            <a:ext cx="432000" cy="384120"/>
          </a:xfrm>
          <a:prstGeom prst="rect">
            <a:avLst/>
          </a:prstGeom>
          <a:ln w="0">
            <a:noFill/>
          </a:ln>
        </p:spPr>
      </p:pic>
      <p:pic>
        <p:nvPicPr>
          <p:cNvPr id="1038" name="Picture 1" descr=""/>
          <p:cNvPicPr/>
          <p:nvPr/>
        </p:nvPicPr>
        <p:blipFill>
          <a:blip r:embed="rId4"/>
          <a:stretch/>
        </p:blipFill>
        <p:spPr>
          <a:xfrm>
            <a:off x="1116000" y="4437000"/>
            <a:ext cx="43164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" dur="5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5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41" name="图片 1" descr=""/>
          <p:cNvPicPr/>
          <p:nvPr/>
        </p:nvPicPr>
        <p:blipFill>
          <a:blip r:embed="rId1"/>
          <a:stretch/>
        </p:blipFill>
        <p:spPr>
          <a:xfrm>
            <a:off x="119160" y="1762200"/>
            <a:ext cx="8904240" cy="3333600"/>
          </a:xfrm>
          <a:prstGeom prst="rect">
            <a:avLst/>
          </a:prstGeom>
          <a:ln w="0">
            <a:noFill/>
          </a:ln>
        </p:spPr>
      </p:pic>
      <p:pic>
        <p:nvPicPr>
          <p:cNvPr id="1042" name="Picture 1" descr=""/>
          <p:cNvPicPr/>
          <p:nvPr/>
        </p:nvPicPr>
        <p:blipFill>
          <a:blip r:embed="rId2"/>
          <a:stretch/>
        </p:blipFill>
        <p:spPr>
          <a:xfrm>
            <a:off x="1116000" y="2276640"/>
            <a:ext cx="431640" cy="384120"/>
          </a:xfrm>
          <a:prstGeom prst="rect">
            <a:avLst/>
          </a:prstGeom>
          <a:ln w="0">
            <a:noFill/>
          </a:ln>
        </p:spPr>
      </p:pic>
      <p:pic>
        <p:nvPicPr>
          <p:cNvPr id="1043" name="Picture 1" descr=""/>
          <p:cNvPicPr/>
          <p:nvPr/>
        </p:nvPicPr>
        <p:blipFill>
          <a:blip r:embed="rId3"/>
          <a:stretch/>
        </p:blipFill>
        <p:spPr>
          <a:xfrm>
            <a:off x="1116000" y="3716280"/>
            <a:ext cx="43164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5" dur="5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0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46" name="图片 1" descr=""/>
          <p:cNvPicPr/>
          <p:nvPr/>
        </p:nvPicPr>
        <p:blipFill>
          <a:blip r:embed="rId1"/>
          <a:stretch/>
        </p:blipFill>
        <p:spPr>
          <a:xfrm>
            <a:off x="93600" y="1347840"/>
            <a:ext cx="8980560" cy="4276800"/>
          </a:xfrm>
          <a:prstGeom prst="rect">
            <a:avLst/>
          </a:prstGeom>
          <a:ln w="0">
            <a:noFill/>
          </a:ln>
        </p:spPr>
      </p:pic>
      <p:pic>
        <p:nvPicPr>
          <p:cNvPr id="1047" name="Picture 1" descr=""/>
          <p:cNvPicPr/>
          <p:nvPr/>
        </p:nvPicPr>
        <p:blipFill>
          <a:blip r:embed="rId2"/>
          <a:stretch/>
        </p:blipFill>
        <p:spPr>
          <a:xfrm>
            <a:off x="4427640" y="2363760"/>
            <a:ext cx="431640" cy="384120"/>
          </a:xfrm>
          <a:prstGeom prst="rect">
            <a:avLst/>
          </a:prstGeom>
          <a:ln w="0">
            <a:noFill/>
          </a:ln>
        </p:spPr>
      </p:pic>
      <p:pic>
        <p:nvPicPr>
          <p:cNvPr id="1048" name="Picture 1" descr=""/>
          <p:cNvPicPr/>
          <p:nvPr/>
        </p:nvPicPr>
        <p:blipFill>
          <a:blip r:embed="rId3"/>
          <a:stretch/>
        </p:blipFill>
        <p:spPr>
          <a:xfrm>
            <a:off x="2627280" y="3284640"/>
            <a:ext cx="432000" cy="384120"/>
          </a:xfrm>
          <a:prstGeom prst="rect">
            <a:avLst/>
          </a:prstGeom>
          <a:ln w="0">
            <a:noFill/>
          </a:ln>
        </p:spPr>
      </p:pic>
      <p:pic>
        <p:nvPicPr>
          <p:cNvPr id="1049" name="Picture 1" descr=""/>
          <p:cNvPicPr/>
          <p:nvPr/>
        </p:nvPicPr>
        <p:blipFill>
          <a:blip r:embed="rId4"/>
          <a:stretch/>
        </p:blipFill>
        <p:spPr>
          <a:xfrm>
            <a:off x="2627280" y="4235400"/>
            <a:ext cx="432000" cy="384120"/>
          </a:xfrm>
          <a:prstGeom prst="rect">
            <a:avLst/>
          </a:prstGeom>
          <a:ln w="0">
            <a:noFill/>
          </a:ln>
        </p:spPr>
      </p:pic>
      <p:pic>
        <p:nvPicPr>
          <p:cNvPr id="1050" name="Picture 1" descr=""/>
          <p:cNvPicPr/>
          <p:nvPr/>
        </p:nvPicPr>
        <p:blipFill>
          <a:blip r:embed="rId5"/>
          <a:stretch/>
        </p:blipFill>
        <p:spPr>
          <a:xfrm>
            <a:off x="2627280" y="5172120"/>
            <a:ext cx="43200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7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2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7" dur="5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2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53" name="图片 1" descr=""/>
          <p:cNvPicPr/>
          <p:nvPr/>
        </p:nvPicPr>
        <p:blipFill>
          <a:blip r:embed="rId1"/>
          <a:stretch/>
        </p:blipFill>
        <p:spPr>
          <a:xfrm>
            <a:off x="871560" y="2324160"/>
            <a:ext cx="740088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52:26Z</dcterms:created>
  <dc:creator>未知用户</dc:creator>
  <dc:description/>
  <dc:language>en-US</dc:language>
  <cp:lastModifiedBy>万润仪器贸易公司</cp:lastModifiedBy>
  <dcterms:modified xsi:type="dcterms:W3CDTF">2020-08-14T08:25:58Z</dcterms:modified>
  <cp:revision>389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